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47C-70A0-438D-A3F1-A9D9A0E2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B42-C852-403B-9512-A82389B6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0B3-3AA6-4987-8FBC-964242B1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D4B-4C29-41D2-A6B8-467B07BA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174-EEE3-48EE-8EC1-A5201A70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6BC-599E-462C-A17D-CE2DDEDD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22E-CCC0-424A-A7E7-8775290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262-ED27-4211-95BD-461B422A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ACF-D8A9-4CD4-BD0B-AD3BD7B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50E-62E0-4381-B517-87A9B55C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E98-DD1F-4180-92FA-139074C0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B91-4C9D-4195-8609-965F6665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792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6440" y="-34920"/>
            <a:ext cx="877896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6600ff"/>
                </a:solidFill>
                <a:latin typeface="隶书"/>
                <a:ea typeface="隶书"/>
              </a:rPr>
              <a:t>第</a:t>
            </a:r>
            <a:r>
              <a:rPr b="1" lang="zh-CN" sz="2400" spc="-1" strike="noStrike">
                <a:solidFill>
                  <a:srgbClr val="6600ff"/>
                </a:solidFill>
                <a:latin typeface="隶书"/>
                <a:ea typeface="隶书"/>
              </a:rPr>
              <a:t>6</a:t>
            </a:r>
            <a:r>
              <a:rPr b="1" lang="zh-CN" sz="2400" spc="-1" strike="noStrike">
                <a:solidFill>
                  <a:srgbClr val="6600ff"/>
                </a:solidFill>
                <a:latin typeface="隶书"/>
                <a:ea typeface="隶书"/>
              </a:rPr>
              <a:t>章  文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5F85-6AD4-4C3D-BF5E-CF574387817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1.xml"/><Relationship Id="rId4" Type="http://schemas.openxmlformats.org/officeDocument/2006/relationships/slide" Target="slide14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8.xml"/><Relationship Id="rId10" Type="http://schemas.openxmlformats.org/officeDocument/2006/relationships/slide" Target="slide30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1.xml"/><Relationship Id="rId3" Type="http://schemas.openxmlformats.org/officeDocument/2006/relationships/slide" Target="slide44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9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章  文件管理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480" y="152352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1" action="ppaction://hlinksldjump"/>
              </a:rPr>
              <a:t>本章学习目标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2" action="ppaction://hlinksldjump"/>
              </a:rPr>
              <a:t>6.1  文件与文件系统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3" action="ppaction://hlinksldjump"/>
              </a:rPr>
              <a:t>6.2  文件的逻辑结构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4" action="ppaction://hlinksldjump"/>
              </a:rPr>
              <a:t>6.3  文件的物理结构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5" action="ppaction://hlinksldjump"/>
              </a:rPr>
              <a:t>6.4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  <a:hlinkClick r:id="rId6" action="ppaction://hlinksldjump"/>
              </a:rPr>
              <a:t>UNIX</a:t>
            </a: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7" action="ppaction://hlinksldjump"/>
              </a:rPr>
              <a:t>系统文件索引结构举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8" action="ppaction://hlinksldjump"/>
              </a:rPr>
              <a:t>6.5  文件目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9" action="ppaction://hlinksldjump"/>
              </a:rPr>
              <a:t>6.6  文件的操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10" action="ppaction://hlinksldjump"/>
              </a:rPr>
              <a:t>6.7  文件的共享与保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11" action="ppaction://hlinksldjump"/>
              </a:rPr>
              <a:t>6.8  文件的完整性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12" action="ppaction://hlinksldjump"/>
              </a:rPr>
              <a:t>6.9  外存空间的管理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13" action="ppaction://hlinksldjump"/>
              </a:rPr>
              <a:t>开   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文件系统的功能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户可执行创建、修改、删除读写文件的命令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户能以合适的方式构造他的文件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户能在系统的控制下，共享其他用户的文件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允许用户用符号名访问文件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系统应有转存和恢复文件的能力，以防止意外事故的发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系统应提供可靠保护及保密措施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2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的逻辑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71440" y="2590560"/>
            <a:ext cx="487692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00"/>
                </a:solidFill>
                <a:uFillTx/>
                <a:latin typeface="Times New Roman"/>
                <a:hlinkClick r:id="rId1" action="ppaction://hlinksldjump"/>
              </a:rPr>
              <a:t>6.2.1  逻辑结构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00"/>
                </a:solidFill>
                <a:uFillTx/>
                <a:latin typeface="Times New Roman"/>
                <a:hlinkClick r:id="rId2" action="ppaction://hlinksldjump"/>
              </a:rPr>
              <a:t>6.2.2  存取方法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2.1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逻辑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有结构的文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结构的文件是指由若干个相关的记录构成的文件，又称记录式文件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无结构文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结构文件又称流式文件，组成流式文件的基本信息单位是字节或字，其长度是文件中所含字节的数目，如大量的源程序，库函数等采用的就是流式结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2.2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存取方法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顺序存取。顺序存取是最简单的方法。它严格按照文件信息单位排列的顺序依次存取，后一次存取总是在前一次存取的基础上进行，所以不必给出具体的存取位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随机存取。随机存取又称直接存取，在存取时必须先确定进行存取时的起始位置（如记录号、字符序号等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3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的物理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7760" y="1980720"/>
            <a:ext cx="4647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00"/>
                </a:solidFill>
                <a:uFillTx/>
                <a:latin typeface="Times New Roman"/>
                <a:hlinkClick r:id="rId1" action="ppaction://hlinksldjump"/>
              </a:rPr>
              <a:t>6.3.1  连续结构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00"/>
                </a:solidFill>
                <a:uFillTx/>
                <a:latin typeface="Times New Roman"/>
                <a:hlinkClick r:id="rId2" action="ppaction://hlinksldjump"/>
              </a:rPr>
              <a:t>6.3.2  链接结构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00"/>
                </a:solidFill>
                <a:uFillTx/>
                <a:latin typeface="Times New Roman"/>
                <a:hlinkClick r:id="rId3" action="ppaction://hlinksldjump"/>
              </a:rPr>
              <a:t>6.3.3  索引结构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5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3.1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连续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1981080"/>
          <a:ext cx="7210440" cy="25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7210440" cy="25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324240" y="510552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的连续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3.2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链接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2133720"/>
          <a:ext cx="791532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91532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324240" y="518148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的链接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3.3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索引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752480"/>
          <a:ext cx="7467480" cy="31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46748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552840" y="518148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的索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95280" y="990720"/>
          <a:ext cx="679608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79608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220920" y="556272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的多重索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4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UNIX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系统文件索引结构举例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5640" y="1904760"/>
            <a:ext cx="51814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小型文件的索引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大型文件的索引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巨型文件的索引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6172200" y="6019920"/>
            <a:ext cx="220968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本章学习目标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1629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件、文件系统、文件目录、目录项、文件共享等基本概念及文件的分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件的两种逻辑结构及两种存取方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件的三种物理结构：连续结构、链接结构及索引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NI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系统的文件索引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种目录结构：单级、两级、多级目录结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件的共享及保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存空间的管理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8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9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．小型文件的索引结构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76520" y="1752480"/>
          <a:ext cx="6248160" cy="35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6248160" cy="35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068640" y="556272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型文件的索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．大型文件的索引结构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76520" y="1600200"/>
          <a:ext cx="6157800" cy="38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615780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220920" y="57150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型文件的索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．巨型文件的索引结构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00200" y="1523880"/>
          <a:ext cx="6167520" cy="38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167520" cy="38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297240" y="57150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巨型文件的索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6.5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文件目录 </a:t>
            </a:r>
            <a:endParaRPr b="1" lang="en-US" sz="36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14240" y="2285640"/>
            <a:ext cx="5715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00"/>
                </a:solidFill>
                <a:uFillTx/>
                <a:latin typeface="Times New Roman"/>
                <a:hlinkClick r:id="rId1" action="ppaction://hlinksldjump"/>
              </a:rPr>
              <a:t>6.5.1  单级目录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00"/>
                </a:solidFill>
                <a:uFillTx/>
                <a:latin typeface="Times New Roman"/>
                <a:hlinkClick r:id="rId2" action="ppaction://hlinksldjump"/>
              </a:rPr>
              <a:t>6.5.2  二级目录结构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00"/>
                </a:solidFill>
                <a:uFillTx/>
                <a:latin typeface="Times New Roman"/>
                <a:hlinkClick r:id="rId3" action="ppaction://hlinksldjump"/>
              </a:rPr>
              <a:t>6.5.3  多级目录结构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5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情形下文件目录项包括以下信息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名。文件的标识符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的逻辑结构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在辅存上的物理位置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建立修改日期及时间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的类型。指明文件的类型。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存取控制信息。指明用户对文件的存取极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5.1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单级目录结构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4400" y="1839960"/>
            <a:ext cx="7391160" cy="3178080"/>
            <a:chOff x="914400" y="1839960"/>
            <a:chExt cx="7391160" cy="3178080"/>
          </a:xfrm>
        </p:grpSpPr>
        <p:grpSp>
          <p:nvGrpSpPr>
            <p:cNvPr id="175" name=""/>
            <p:cNvGrpSpPr/>
            <p:nvPr/>
          </p:nvGrpSpPr>
          <p:grpSpPr>
            <a:xfrm>
              <a:off x="920160" y="1844640"/>
              <a:ext cx="7378560" cy="3168720"/>
              <a:chOff x="920160" y="1844640"/>
              <a:chExt cx="7378560" cy="316872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920160" y="1844640"/>
                <a:ext cx="1563480" cy="730080"/>
                <a:chOff x="920160" y="1844640"/>
                <a:chExt cx="1563480" cy="7300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004760" y="1844640"/>
                  <a:ext cx="139428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文件名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920160" y="1844640"/>
                  <a:ext cx="1563480" cy="73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484000" y="1844640"/>
                <a:ext cx="1958040" cy="730080"/>
                <a:chOff x="2484000" y="1844640"/>
                <a:chExt cx="1958040" cy="730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568600" y="1844640"/>
                  <a:ext cx="178848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文件的物理位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484000" y="1844640"/>
                  <a:ext cx="1958040" cy="73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442400" y="1844640"/>
                <a:ext cx="1283760" cy="730080"/>
                <a:chOff x="4442400" y="1844640"/>
                <a:chExt cx="1283760" cy="730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526640" y="1844640"/>
                  <a:ext cx="11145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日期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442400" y="1844640"/>
                  <a:ext cx="1283760" cy="73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726880" y="1844640"/>
                <a:ext cx="1285560" cy="730080"/>
                <a:chOff x="5726880" y="1844640"/>
                <a:chExt cx="1285560" cy="730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811120" y="1844640"/>
                  <a:ext cx="111672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时间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726880" y="1844640"/>
                  <a:ext cx="1285560" cy="73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012800" y="1844640"/>
                <a:ext cx="1285920" cy="730080"/>
                <a:chOff x="7012800" y="1844640"/>
                <a:chExt cx="1285920" cy="730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7097400" y="1844640"/>
                  <a:ext cx="11163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其他信息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012800" y="1844640"/>
                  <a:ext cx="1285920" cy="73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920160" y="2574720"/>
                <a:ext cx="1563480" cy="609840"/>
                <a:chOff x="920160" y="2574720"/>
                <a:chExt cx="1563480" cy="609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004760" y="2574720"/>
                  <a:ext cx="13942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920160" y="2574720"/>
                  <a:ext cx="156348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484000" y="2574720"/>
                <a:ext cx="1958040" cy="609840"/>
                <a:chOff x="2484000" y="2574720"/>
                <a:chExt cx="1958040" cy="6098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568600" y="2574720"/>
                  <a:ext cx="17884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484000" y="2574720"/>
                  <a:ext cx="195804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442400" y="2574720"/>
                <a:ext cx="1283760" cy="609840"/>
                <a:chOff x="4442400" y="2574720"/>
                <a:chExt cx="1283760" cy="6098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526640" y="2574720"/>
                  <a:ext cx="1114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42400" y="2574720"/>
                  <a:ext cx="128376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726880" y="2574720"/>
                <a:ext cx="1285560" cy="609840"/>
                <a:chOff x="5726880" y="2574720"/>
                <a:chExt cx="1285560" cy="6098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811120" y="2574720"/>
                  <a:ext cx="111672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26880" y="2574720"/>
                  <a:ext cx="128556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7012800" y="2574720"/>
                <a:ext cx="1285920" cy="609840"/>
                <a:chOff x="7012800" y="2574720"/>
                <a:chExt cx="1285920" cy="6098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097400" y="2574720"/>
                  <a:ext cx="11163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012800" y="2574720"/>
                  <a:ext cx="128592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920160" y="3184560"/>
                <a:ext cx="1563480" cy="609480"/>
                <a:chOff x="920160" y="3184560"/>
                <a:chExt cx="1563480" cy="6094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004760" y="3184560"/>
                  <a:ext cx="13942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bs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920160" y="3184560"/>
                  <a:ext cx="156348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484000" y="3184560"/>
                <a:ext cx="1958040" cy="609480"/>
                <a:chOff x="2484000" y="3184560"/>
                <a:chExt cx="1958040" cy="6094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568600" y="3184560"/>
                  <a:ext cx="17884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484000" y="3184560"/>
                  <a:ext cx="195804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442400" y="3184560"/>
                <a:ext cx="1283760" cy="609480"/>
                <a:chOff x="4442400" y="3184560"/>
                <a:chExt cx="1283760" cy="6094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526640" y="3184560"/>
                  <a:ext cx="1114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442400" y="3184560"/>
                  <a:ext cx="128376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5726880" y="3184560"/>
                <a:ext cx="1285560" cy="609480"/>
                <a:chOff x="5726880" y="3184560"/>
                <a:chExt cx="1285560" cy="6094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5811120" y="3184560"/>
                  <a:ext cx="1116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726880" y="3184560"/>
                  <a:ext cx="128556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012800" y="3184560"/>
                <a:ext cx="1285920" cy="609480"/>
                <a:chOff x="7012800" y="3184560"/>
                <a:chExt cx="1285920" cy="6094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097400" y="3184560"/>
                  <a:ext cx="11163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012800" y="3184560"/>
                  <a:ext cx="128592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920160" y="3794040"/>
                <a:ext cx="1563480" cy="609480"/>
                <a:chOff x="920160" y="3794040"/>
                <a:chExt cx="1563480" cy="6094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004760" y="3794040"/>
                  <a:ext cx="13942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Wp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920160" y="3794040"/>
                  <a:ext cx="156348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484000" y="3794040"/>
                <a:ext cx="1958040" cy="609480"/>
                <a:chOff x="2484000" y="3794040"/>
                <a:chExt cx="1958040" cy="6094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568600" y="3794040"/>
                  <a:ext cx="17884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484000" y="3794040"/>
                  <a:ext cx="195804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442400" y="3794040"/>
                <a:ext cx="1283760" cy="609480"/>
                <a:chOff x="4442400" y="3794040"/>
                <a:chExt cx="1283760" cy="6094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526640" y="3794040"/>
                  <a:ext cx="1114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442400" y="3794040"/>
                  <a:ext cx="128376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726880" y="3794040"/>
                <a:ext cx="1285560" cy="609480"/>
                <a:chOff x="5726880" y="3794040"/>
                <a:chExt cx="1285560" cy="6094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811120" y="3794040"/>
                  <a:ext cx="1116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726880" y="3794040"/>
                  <a:ext cx="128556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012800" y="3794040"/>
                <a:ext cx="1285920" cy="609480"/>
                <a:chOff x="7012800" y="3794040"/>
                <a:chExt cx="1285920" cy="6094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097400" y="3794040"/>
                  <a:ext cx="11163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012800" y="3794040"/>
                  <a:ext cx="128592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920160" y="4403520"/>
                <a:ext cx="1563480" cy="609840"/>
                <a:chOff x="920160" y="4403520"/>
                <a:chExt cx="1563480" cy="609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004760" y="4403520"/>
                  <a:ext cx="13942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…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920160" y="4403520"/>
                  <a:ext cx="156348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484000" y="4403520"/>
                <a:ext cx="1958040" cy="609840"/>
                <a:chOff x="2484000" y="4403520"/>
                <a:chExt cx="1958040" cy="6098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8600" y="4403520"/>
                  <a:ext cx="17884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484000" y="4403520"/>
                  <a:ext cx="195804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442400" y="4403520"/>
                <a:ext cx="1283760" cy="609840"/>
                <a:chOff x="4442400" y="4403520"/>
                <a:chExt cx="1283760" cy="6098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526640" y="4403520"/>
                  <a:ext cx="1114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442400" y="4403520"/>
                  <a:ext cx="128376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726880" y="4403520"/>
                <a:ext cx="1285560" cy="609840"/>
                <a:chOff x="5726880" y="4403520"/>
                <a:chExt cx="1285560" cy="6098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811120" y="4403520"/>
                  <a:ext cx="111672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726880" y="4403520"/>
                  <a:ext cx="128556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012800" y="4403520"/>
                <a:ext cx="1285920" cy="609840"/>
                <a:chOff x="7012800" y="4403520"/>
                <a:chExt cx="1285920" cy="6098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7097400" y="4403520"/>
                  <a:ext cx="11163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012800" y="4403520"/>
                  <a:ext cx="128592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"/>
            <p:cNvSpPr/>
            <p:nvPr/>
          </p:nvSpPr>
          <p:spPr>
            <a:xfrm>
              <a:off x="914400" y="1839960"/>
              <a:ext cx="7391160" cy="317808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335040" y="541008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级目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5.2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二级目录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43000" y="2057400"/>
          <a:ext cx="708192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0819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3642840" y="548640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级目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5.3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多级目录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133720" y="1295280"/>
          <a:ext cx="5172120" cy="45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95280"/>
                    <a:ext cx="517212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7409880" y="1828800"/>
            <a:ext cx="91188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级目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6324480" y="6095880"/>
            <a:ext cx="2210040" cy="60984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6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的操作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120" y="1676160"/>
            <a:ext cx="4038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对文件的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创建文件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删除文件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打开文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读文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写文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关闭文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6172200" y="6019920"/>
            <a:ext cx="220968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742840" y="1218960"/>
            <a:ext cx="3962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对记录的操作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读操作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写操作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查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修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插入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删除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1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与文件系统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33720" y="1828800"/>
            <a:ext cx="58672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" action="ppaction://hlinksldjump"/>
              </a:rPr>
              <a:t>6.1.1  文件与文件系统的概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" action="ppaction://hlinksldjump"/>
              </a:rPr>
              <a:t>6.1.2  文件的分类、属性及文件系统的功能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7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的共享与保护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文件的共享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绕弯路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绕弯路法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C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操作系统采用过的方法。在该方法中，系统允许每个用户获得一个“当前目录”，用户对文件的访问都是相对于“当前目录”下的，可以通过“向上走”的方式去访问其上级目录，一般用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一个目录的父目录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接法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些系统为用户指定使用目录，用户要访问指定目录开始的子树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11464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715000" cy="4519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643400" y="5562720"/>
            <a:ext cx="20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文件的连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31400" y="556272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目录的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6324480" y="6095880"/>
            <a:ext cx="2210040" cy="60984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．文件的保护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66520" y="1828800"/>
            <a:ext cx="4800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存取控制矩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存取控制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口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密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85800" y="914400"/>
            <a:ext cx="8000640" cy="4532400"/>
            <a:chOff x="685800" y="914400"/>
            <a:chExt cx="8000640" cy="4532400"/>
          </a:xfrm>
        </p:grpSpPr>
        <p:grpSp>
          <p:nvGrpSpPr>
            <p:cNvPr id="282" name=""/>
            <p:cNvGrpSpPr/>
            <p:nvPr/>
          </p:nvGrpSpPr>
          <p:grpSpPr>
            <a:xfrm>
              <a:off x="691560" y="919080"/>
              <a:ext cx="7988040" cy="4522680"/>
              <a:chOff x="691560" y="919080"/>
              <a:chExt cx="7988040" cy="452268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691560" y="919080"/>
                <a:ext cx="927000" cy="933480"/>
                <a:chOff x="691560" y="919080"/>
                <a:chExt cx="927000" cy="933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776160" y="919080"/>
                  <a:ext cx="758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  <a:ea typeface="黑体"/>
                    </a:rPr>
                    <a:t>文件用户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91560" y="919080"/>
                  <a:ext cx="927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618920" y="919080"/>
                <a:ext cx="882000" cy="933480"/>
                <a:chOff x="1618920" y="919080"/>
                <a:chExt cx="882000" cy="933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70352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61892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501640" y="919080"/>
                <a:ext cx="882000" cy="933480"/>
                <a:chOff x="2501640" y="919080"/>
                <a:chExt cx="882000" cy="933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58624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50164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384360" y="919080"/>
                <a:ext cx="882000" cy="933480"/>
                <a:chOff x="3384360" y="919080"/>
                <a:chExt cx="882000" cy="933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46896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38436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267080" y="919080"/>
                <a:ext cx="882000" cy="933480"/>
                <a:chOff x="4267080" y="919080"/>
                <a:chExt cx="882000" cy="933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35168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26708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5149800" y="919080"/>
                <a:ext cx="882000" cy="933480"/>
                <a:chOff x="5149800" y="919080"/>
                <a:chExt cx="882000" cy="933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23440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4980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032520" y="919080"/>
                <a:ext cx="882000" cy="933480"/>
                <a:chOff x="6032520" y="919080"/>
                <a:chExt cx="882000" cy="933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11712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3252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915240" y="919080"/>
                <a:ext cx="882000" cy="933480"/>
                <a:chOff x="6915240" y="919080"/>
                <a:chExt cx="882000" cy="933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99984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91524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797600" y="919080"/>
                <a:ext cx="882000" cy="933480"/>
                <a:chOff x="7797600" y="919080"/>
                <a:chExt cx="882000" cy="933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882200" y="919080"/>
                  <a:ext cx="71280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79760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691560" y="1852560"/>
                <a:ext cx="927000" cy="512640"/>
                <a:chOff x="691560" y="1852560"/>
                <a:chExt cx="927000" cy="5126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776160" y="1852560"/>
                  <a:ext cx="758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91560" y="1852560"/>
                  <a:ext cx="927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1618920" y="1852560"/>
                <a:ext cx="882000" cy="512640"/>
                <a:chOff x="1618920" y="1852560"/>
                <a:chExt cx="882000" cy="5126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70352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1892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501640" y="1852560"/>
                <a:ext cx="882000" cy="512640"/>
                <a:chOff x="2501640" y="1852560"/>
                <a:chExt cx="882000" cy="5126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58624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50164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384360" y="1852560"/>
                <a:ext cx="882000" cy="512640"/>
                <a:chOff x="3384360" y="1852560"/>
                <a:chExt cx="882000" cy="5126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46896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38436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4267080" y="1852560"/>
                <a:ext cx="882000" cy="512640"/>
                <a:chOff x="4267080" y="1852560"/>
                <a:chExt cx="882000" cy="512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35168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26708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149800" y="1852560"/>
                <a:ext cx="882000" cy="512640"/>
                <a:chOff x="5149800" y="1852560"/>
                <a:chExt cx="882000" cy="5126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23440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14980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032520" y="1852560"/>
                <a:ext cx="882000" cy="512640"/>
                <a:chOff x="6032520" y="1852560"/>
                <a:chExt cx="882000" cy="5126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1712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3252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915240" y="1852560"/>
                <a:ext cx="882000" cy="512640"/>
                <a:chOff x="6915240" y="1852560"/>
                <a:chExt cx="882000" cy="5126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99984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91524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97600" y="1852560"/>
                <a:ext cx="882000" cy="512640"/>
                <a:chOff x="7797600" y="1852560"/>
                <a:chExt cx="882000" cy="51264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882200" y="1852560"/>
                  <a:ext cx="71280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9760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91560" y="2365200"/>
                <a:ext cx="927000" cy="513000"/>
                <a:chOff x="691560" y="2365200"/>
                <a:chExt cx="927000" cy="5130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776160" y="2365200"/>
                  <a:ext cx="758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91560" y="2365200"/>
                  <a:ext cx="927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1618920" y="2365200"/>
                <a:ext cx="882000" cy="513000"/>
                <a:chOff x="1618920" y="2365200"/>
                <a:chExt cx="882000" cy="5130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70352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61892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2501640" y="2365200"/>
                <a:ext cx="882000" cy="513000"/>
                <a:chOff x="2501640" y="2365200"/>
                <a:chExt cx="882000" cy="5130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258624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50164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3384360" y="2365200"/>
                <a:ext cx="882000" cy="513000"/>
                <a:chOff x="3384360" y="2365200"/>
                <a:chExt cx="882000" cy="513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346896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38436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4267080" y="2365200"/>
                <a:ext cx="882000" cy="513000"/>
                <a:chOff x="4267080" y="2365200"/>
                <a:chExt cx="882000" cy="5130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35168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26708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149800" y="2365200"/>
                <a:ext cx="882000" cy="513000"/>
                <a:chOff x="5149800" y="2365200"/>
                <a:chExt cx="882000" cy="5130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23440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14980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032520" y="2365200"/>
                <a:ext cx="882000" cy="513000"/>
                <a:chOff x="6032520" y="2365200"/>
                <a:chExt cx="882000" cy="5130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11712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03252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915240" y="2365200"/>
                <a:ext cx="882000" cy="513000"/>
                <a:chOff x="6915240" y="2365200"/>
                <a:chExt cx="882000" cy="513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99984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91524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797600" y="2365200"/>
                <a:ext cx="882000" cy="513000"/>
                <a:chOff x="7797600" y="2365200"/>
                <a:chExt cx="882000" cy="5130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882200" y="2365200"/>
                  <a:ext cx="71280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79760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91560" y="2878200"/>
                <a:ext cx="927000" cy="512640"/>
                <a:chOff x="691560" y="2878200"/>
                <a:chExt cx="927000" cy="5126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76160" y="2878200"/>
                  <a:ext cx="758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91560" y="2878200"/>
                  <a:ext cx="927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1618920" y="2878200"/>
                <a:ext cx="882000" cy="512640"/>
                <a:chOff x="1618920" y="2878200"/>
                <a:chExt cx="882000" cy="5126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70352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61892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501640" y="2878200"/>
                <a:ext cx="882000" cy="512640"/>
                <a:chOff x="2501640" y="2878200"/>
                <a:chExt cx="882000" cy="51264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258624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50164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384360" y="2878200"/>
                <a:ext cx="882000" cy="512640"/>
                <a:chOff x="3384360" y="2878200"/>
                <a:chExt cx="882000" cy="5126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46896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38436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267080" y="2878200"/>
                <a:ext cx="882000" cy="512640"/>
                <a:chOff x="4267080" y="2878200"/>
                <a:chExt cx="882000" cy="5126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35168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26708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149800" y="2878200"/>
                <a:ext cx="882000" cy="512640"/>
                <a:chOff x="5149800" y="2878200"/>
                <a:chExt cx="882000" cy="5126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23440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14980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032520" y="2878200"/>
                <a:ext cx="882000" cy="512640"/>
                <a:chOff x="6032520" y="2878200"/>
                <a:chExt cx="882000" cy="51264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11712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03252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915240" y="2878200"/>
                <a:ext cx="882000" cy="512640"/>
                <a:chOff x="6915240" y="2878200"/>
                <a:chExt cx="882000" cy="5126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99984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91524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797600" y="2878200"/>
                <a:ext cx="882000" cy="512640"/>
                <a:chOff x="7797600" y="2878200"/>
                <a:chExt cx="882000" cy="5126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882200" y="2878200"/>
                  <a:ext cx="71280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79760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691560" y="3390840"/>
                <a:ext cx="927000" cy="512640"/>
                <a:chOff x="691560" y="3390840"/>
                <a:chExt cx="927000" cy="5126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76160" y="3390840"/>
                  <a:ext cx="758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91560" y="3390840"/>
                  <a:ext cx="927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1618920" y="3390840"/>
                <a:ext cx="882000" cy="512640"/>
                <a:chOff x="1618920" y="3390840"/>
                <a:chExt cx="882000" cy="5126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70352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61892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501640" y="3390840"/>
                <a:ext cx="882000" cy="512640"/>
                <a:chOff x="2501640" y="3390840"/>
                <a:chExt cx="882000" cy="51264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58624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50164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3384360" y="3390840"/>
                <a:ext cx="882000" cy="512640"/>
                <a:chOff x="3384360" y="3390840"/>
                <a:chExt cx="882000" cy="5126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46896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38436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4267080" y="3390840"/>
                <a:ext cx="882000" cy="512640"/>
                <a:chOff x="4267080" y="3390840"/>
                <a:chExt cx="882000" cy="5126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435168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26708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5149800" y="3390840"/>
                <a:ext cx="882000" cy="512640"/>
                <a:chOff x="5149800" y="3390840"/>
                <a:chExt cx="882000" cy="51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23440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14980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032520" y="3390840"/>
                <a:ext cx="882000" cy="512640"/>
                <a:chOff x="6032520" y="3390840"/>
                <a:chExt cx="882000" cy="51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11712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03252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915240" y="3390840"/>
                <a:ext cx="882000" cy="512640"/>
                <a:chOff x="6915240" y="3390840"/>
                <a:chExt cx="882000" cy="51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99984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91524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797600" y="3390840"/>
                <a:ext cx="882000" cy="512640"/>
                <a:chOff x="7797600" y="3390840"/>
                <a:chExt cx="882000" cy="51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882200" y="3390840"/>
                  <a:ext cx="71280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79760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91560" y="3903480"/>
                <a:ext cx="927000" cy="513000"/>
                <a:chOff x="691560" y="3903480"/>
                <a:chExt cx="927000" cy="5130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76160" y="3903480"/>
                  <a:ext cx="758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91560" y="3903480"/>
                  <a:ext cx="927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618920" y="3903480"/>
                <a:ext cx="882000" cy="513000"/>
                <a:chOff x="1618920" y="3903480"/>
                <a:chExt cx="882000" cy="5130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70352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61892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2501640" y="3903480"/>
                <a:ext cx="882000" cy="513000"/>
                <a:chOff x="2501640" y="3903480"/>
                <a:chExt cx="882000" cy="5130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58624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50164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3384360" y="3903480"/>
                <a:ext cx="882000" cy="513000"/>
                <a:chOff x="3384360" y="3903480"/>
                <a:chExt cx="882000" cy="51300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46896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38436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4267080" y="3903480"/>
                <a:ext cx="882000" cy="513000"/>
                <a:chOff x="4267080" y="3903480"/>
                <a:chExt cx="882000" cy="5130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35168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26708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149800" y="3903480"/>
                <a:ext cx="882000" cy="513000"/>
                <a:chOff x="5149800" y="3903480"/>
                <a:chExt cx="882000" cy="5130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23440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14980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032520" y="3903480"/>
                <a:ext cx="882000" cy="513000"/>
                <a:chOff x="6032520" y="3903480"/>
                <a:chExt cx="882000" cy="5130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11712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03252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915240" y="3903480"/>
                <a:ext cx="882000" cy="513000"/>
                <a:chOff x="6915240" y="3903480"/>
                <a:chExt cx="882000" cy="5130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99984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91524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797600" y="3903480"/>
                <a:ext cx="882000" cy="513000"/>
                <a:chOff x="7797600" y="3903480"/>
                <a:chExt cx="882000" cy="5130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7882200" y="3903480"/>
                  <a:ext cx="71280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79760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691560" y="4416480"/>
                <a:ext cx="927000" cy="512640"/>
                <a:chOff x="691560" y="4416480"/>
                <a:chExt cx="927000" cy="5126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776160" y="4416480"/>
                  <a:ext cx="758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91560" y="4416480"/>
                  <a:ext cx="927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1618920" y="4416480"/>
                <a:ext cx="882000" cy="512640"/>
                <a:chOff x="1618920" y="4416480"/>
                <a:chExt cx="882000" cy="51264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170352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61892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2501640" y="4416480"/>
                <a:ext cx="882000" cy="512640"/>
                <a:chOff x="2501640" y="4416480"/>
                <a:chExt cx="882000" cy="5126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258624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50164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3384360" y="4416480"/>
                <a:ext cx="882000" cy="512640"/>
                <a:chOff x="3384360" y="4416480"/>
                <a:chExt cx="882000" cy="5126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46896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38436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267080" y="4416480"/>
                <a:ext cx="882000" cy="512640"/>
                <a:chOff x="4267080" y="4416480"/>
                <a:chExt cx="882000" cy="51264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35168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26708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149800" y="4416480"/>
                <a:ext cx="882000" cy="512640"/>
                <a:chOff x="5149800" y="4416480"/>
                <a:chExt cx="882000" cy="5126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23440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14980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6032520" y="4416480"/>
                <a:ext cx="882000" cy="512640"/>
                <a:chOff x="6032520" y="4416480"/>
                <a:chExt cx="882000" cy="51264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611712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03252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6915240" y="4416480"/>
                <a:ext cx="882000" cy="512640"/>
                <a:chOff x="6915240" y="4416480"/>
                <a:chExt cx="882000" cy="5126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699984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91524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7797600" y="4416480"/>
                <a:ext cx="882000" cy="512640"/>
                <a:chOff x="7797600" y="4416480"/>
                <a:chExt cx="882000" cy="5126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7882200" y="4416480"/>
                  <a:ext cx="71280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79760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91560" y="4929120"/>
                <a:ext cx="927000" cy="512640"/>
                <a:chOff x="691560" y="4929120"/>
                <a:chExt cx="927000" cy="5126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776160" y="4929120"/>
                  <a:ext cx="758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1560" y="4929120"/>
                  <a:ext cx="927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1618920" y="4929120"/>
                <a:ext cx="882000" cy="512640"/>
                <a:chOff x="1618920" y="4929120"/>
                <a:chExt cx="882000" cy="5126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70352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61892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501640" y="4929120"/>
                <a:ext cx="882000" cy="512640"/>
                <a:chOff x="2501640" y="4929120"/>
                <a:chExt cx="882000" cy="5126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58624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50164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384360" y="4929120"/>
                <a:ext cx="882000" cy="512640"/>
                <a:chOff x="3384360" y="4929120"/>
                <a:chExt cx="882000" cy="51264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46896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38436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4267080" y="4929120"/>
                <a:ext cx="882000" cy="512640"/>
                <a:chOff x="4267080" y="4929120"/>
                <a:chExt cx="882000" cy="5126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35168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26708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149800" y="4929120"/>
                <a:ext cx="882000" cy="512640"/>
                <a:chOff x="5149800" y="4929120"/>
                <a:chExt cx="882000" cy="5126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523440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14980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6032520" y="4929120"/>
                <a:ext cx="882000" cy="512640"/>
                <a:chOff x="6032520" y="4929120"/>
                <a:chExt cx="882000" cy="51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11712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03252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915240" y="4929120"/>
                <a:ext cx="882000" cy="512640"/>
                <a:chOff x="6915240" y="4929120"/>
                <a:chExt cx="882000" cy="5126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699984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91524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7797600" y="4929120"/>
                <a:ext cx="882000" cy="512640"/>
                <a:chOff x="7797600" y="4929120"/>
                <a:chExt cx="882000" cy="5126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7882200" y="4929120"/>
                  <a:ext cx="71280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79760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9" name=""/>
            <p:cNvSpPr/>
            <p:nvPr/>
          </p:nvSpPr>
          <p:spPr>
            <a:xfrm>
              <a:off x="685800" y="914400"/>
              <a:ext cx="8000640" cy="4532400"/>
            </a:xfrm>
            <a:prstGeom prst="rect">
              <a:avLst/>
            </a:prstGeom>
            <a:noFill/>
            <a:ln cap="sq" w="11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719160" y="563868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存取控制矩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2362320" y="1066680"/>
            <a:ext cx="4560480" cy="4520880"/>
            <a:chOff x="2362320" y="1066680"/>
            <a:chExt cx="4560480" cy="4520880"/>
          </a:xfrm>
        </p:grpSpPr>
        <p:grpSp>
          <p:nvGrpSpPr>
            <p:cNvPr id="504" name=""/>
            <p:cNvGrpSpPr/>
            <p:nvPr/>
          </p:nvGrpSpPr>
          <p:grpSpPr>
            <a:xfrm>
              <a:off x="2370600" y="1072080"/>
              <a:ext cx="4542120" cy="4509000"/>
              <a:chOff x="2370600" y="1072080"/>
              <a:chExt cx="4542120" cy="450900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2370600" y="1072080"/>
                <a:ext cx="2068200" cy="889560"/>
                <a:chOff x="2370600" y="1072080"/>
                <a:chExt cx="2068200" cy="88956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491920" y="1072080"/>
                  <a:ext cx="1825200" cy="88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用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     </a:t>
                  </a: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文件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370600" y="1072080"/>
                  <a:ext cx="2068200" cy="889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4439160" y="1072080"/>
                <a:ext cx="2473560" cy="889560"/>
                <a:chOff x="4439160" y="1072080"/>
                <a:chExt cx="2473560" cy="8895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559760" y="1072080"/>
                  <a:ext cx="2232000" cy="88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WW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439160" y="1072080"/>
                  <a:ext cx="2473560" cy="889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2370600" y="1962000"/>
                <a:ext cx="2068200" cy="723600"/>
                <a:chOff x="2370600" y="1962000"/>
                <a:chExt cx="2068200" cy="72360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2491920" y="1962000"/>
                  <a:ext cx="182520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文件名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70600" y="1962000"/>
                  <a:ext cx="2068200" cy="723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4439160" y="1962000"/>
                <a:ext cx="2473560" cy="723600"/>
                <a:chOff x="4439160" y="1962000"/>
                <a:chExt cx="2473560" cy="7236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4559760" y="1962000"/>
                  <a:ext cx="223200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     </a:t>
                  </a: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RW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439160" y="1962000"/>
                  <a:ext cx="2473560" cy="723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370600" y="2686320"/>
                <a:ext cx="2068200" cy="723240"/>
                <a:chOff x="2370600" y="2686320"/>
                <a:chExt cx="2068200" cy="7232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491920" y="2686320"/>
                  <a:ext cx="182520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B</a:t>
                  </a: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370600" y="2686320"/>
                  <a:ext cx="2068200" cy="723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4439160" y="2686320"/>
                <a:ext cx="2473560" cy="723240"/>
                <a:chOff x="4439160" y="2686320"/>
                <a:chExt cx="2473560" cy="723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559760" y="2686320"/>
                  <a:ext cx="223200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     </a:t>
                  </a: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439160" y="2686320"/>
                  <a:ext cx="2473560" cy="723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2370600" y="3409920"/>
                <a:ext cx="2068200" cy="723240"/>
                <a:chOff x="2370600" y="3409920"/>
                <a:chExt cx="2068200" cy="7232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491920" y="3409920"/>
                  <a:ext cx="182520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B</a:t>
                  </a: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370600" y="3409920"/>
                  <a:ext cx="2068200" cy="723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4439160" y="3409920"/>
                <a:ext cx="2473560" cy="723240"/>
                <a:chOff x="4439160" y="3409920"/>
                <a:chExt cx="2473560" cy="72324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4559760" y="3409920"/>
                  <a:ext cx="223200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     </a:t>
                  </a: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W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439160" y="3409920"/>
                  <a:ext cx="2473560" cy="723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2370600" y="4133520"/>
                <a:ext cx="2068200" cy="723240"/>
                <a:chOff x="2370600" y="4133520"/>
                <a:chExt cx="2068200" cy="7232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2491920" y="4133520"/>
                  <a:ext cx="182520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C</a:t>
                  </a: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370600" y="4133520"/>
                  <a:ext cx="2068200" cy="723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439160" y="4133520"/>
                <a:ext cx="2473560" cy="723240"/>
                <a:chOff x="4439160" y="4133520"/>
                <a:chExt cx="2473560" cy="72324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559760" y="4133520"/>
                  <a:ext cx="223200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     </a:t>
                  </a: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439160" y="4133520"/>
                  <a:ext cx="2473560" cy="723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2370600" y="4857480"/>
                <a:ext cx="2068200" cy="723600"/>
                <a:chOff x="2370600" y="4857480"/>
                <a:chExt cx="2068200" cy="7236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2491920" y="4857480"/>
                  <a:ext cx="182520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其他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370600" y="4857480"/>
                  <a:ext cx="2068200" cy="723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4439160" y="4857480"/>
                <a:ext cx="2473560" cy="723600"/>
                <a:chOff x="4439160" y="4857480"/>
                <a:chExt cx="2473560" cy="7236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4559760" y="4857480"/>
                  <a:ext cx="223200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     </a:t>
                  </a: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NON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439160" y="4857480"/>
                  <a:ext cx="2473560" cy="723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1" name=""/>
            <p:cNvSpPr/>
            <p:nvPr/>
          </p:nvSpPr>
          <p:spPr>
            <a:xfrm>
              <a:off x="2362320" y="1066680"/>
              <a:ext cx="4560480" cy="452088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318440" y="1796040"/>
            <a:ext cx="54612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6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存取控制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常见的文件的存取权限一般有以下几种：</a:t>
            </a:r>
            <a:endParaRPr b="1" lang="en-US" sz="2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80720" y="1676160"/>
            <a:ext cx="5715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只执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只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只写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只在文件尾写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删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口令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6629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口令的优点是：简便。节省空间。 其缺点有以下几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靠性差。口令易被窃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存取控制不易改变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保护级别少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密码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6095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文件进行保护的另一项措施是密码技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密码技术除保密性强外，还具有节省存储空间的优点。但它必须花费大量的编码和译码时间，从而增加了系统的开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8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的完整性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针对文件系统而言，它必须保证在系统硬件、软件发生故障的时候，文件也不会遭到破坏，这就是文件的完整性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保证文件的完整，文件系统应当提供适当的机构，以便复制备份，即系统必须保存所有文件的双份拷贝。保存双份拷贝的目的是当发生偶然事件毁坏文件后，可通过另一拷贝将文件恢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文件拷贝的方法有周期性转储、增量转储等几种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9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外存空间的管理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38280" y="1904760"/>
            <a:ext cx="50292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" action="ppaction://hlinksldjump"/>
              </a:rPr>
              <a:t>6.9.1  外存的主要技术参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" action="ppaction://hlinksldjump"/>
              </a:rPr>
              <a:t>6.9.2  空闲块的管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3" action="ppaction://hlinksldjump"/>
              </a:rPr>
              <a:t>6.9.3  分配策略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4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5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1.1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与文件系统的概念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件的定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是具有标识符（文件名）的一组相关信息的集合。标识符是用来标识文件的。不同的系统对标识符的规定有所不同。文件的确切定义有两种说法：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是具有标识符的相关字符流的集合。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是具有标识符的相关记录的集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9.1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外存的主要技术参数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4191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存的主要技术参数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容量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物理尺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访问方法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00600" y="2971800"/>
            <a:ext cx="1009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传输速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查询时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延迟时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拆卸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9.2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空闲块的管理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空闲文件目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304920" y="2666880"/>
          <a:ext cx="853416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53416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3255480" y="518148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闲文件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．空闲块链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543800" cy="20973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3365280" y="480060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空闲块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．位示图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286760" cy="28764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378960" y="510552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示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>
            <a:hlinkClick r:id="rId2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9.3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分配策略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空闲块的分配有静态分配和动态分配两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静态分配中，用户在建立文件时宣布文件的大小，系统一次分配其所需要的全部区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动态分配中，用户在建立一个文件时，系统并不分配存储空间，而是在每次写信息时才按所写信息的大小进行分配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THANK YOU VERY MUCH 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！</a:t>
            </a:r>
            <a:endParaRPr b="1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本章到此结束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谢谢您的光临！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1" action="ppaction://hlinksldjump"/>
          </p:cNvPr>
          <p:cNvSpPr/>
          <p:nvPr/>
        </p:nvSpPr>
        <p:spPr>
          <a:xfrm>
            <a:off x="6629400" y="5334120"/>
            <a:ext cx="220968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>
            <a:hlinkClick r:id="" action="ppaction://hlinkshowjump?jump=endshow"/>
          </p:cNvPr>
          <p:cNvSpPr/>
          <p:nvPr/>
        </p:nvSpPr>
        <p:spPr>
          <a:xfrm>
            <a:off x="5410080" y="617220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结束放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件系统的定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系统是操作系统中负责存取和管理文件信息的机构。它由管理文件所需的数据结构（如文件控制块，存储分配表等）和相应的管理软件以及访问文件的一组操作组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6.1.2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文件的分类、属性及文件系统的功能 </a:t>
            </a:r>
            <a:endParaRPr b="1" lang="en-US" sz="28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5640" y="1828800"/>
            <a:ext cx="4800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文件的分类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文件的属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文件系统的功能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文件的分类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文件的用途分类可分为以下三类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系统文件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户文件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库文件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文件中的数据形式分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源文件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目标文件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执行文件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操作保护分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只读文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读写文件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执行文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60880" y="2851200"/>
            <a:ext cx="198072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文件的性质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普通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目录文件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特殊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63248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．文件的属性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5640" y="1752480"/>
            <a:ext cx="48769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类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长度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的位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的存取控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的建立时间。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2:52:41Z</dcterms:created>
  <dc:creator>新人电脑</dc:creator>
  <dc:description/>
  <dc:language>en-US</dc:language>
  <cp:lastModifiedBy>新人电脑</cp:lastModifiedBy>
  <dcterms:modified xsi:type="dcterms:W3CDTF">2001-12-24T03:02:36Z</dcterms:modified>
  <cp:revision>50</cp:revision>
  <dc:subject/>
  <dc:title>第6章  文件管理 </dc:title>
</cp:coreProperties>
</file>